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5.png" ContentType="image/png"/>
  <Override PartName="/ppt/media/image40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5.wmf" ContentType="image/x-wmf"/>
  <Override PartName="/ppt/media/image27.jpeg" ContentType="image/jpeg"/>
  <Override PartName="/ppt/media/image4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C8CE-508B-4CB8-B0D6-881FB6896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CD65-6DE2-4373-9D7F-458892C1B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BB18-1CD7-4BBD-B6DC-5BFA42396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F325-FED5-4933-B2B2-FBA7EBDD3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6279-2F98-4405-AC99-E9C7E0A55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0D8A-478C-46D3-81AB-7FFDC5CB6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B89-6651-4C3D-9167-D568AB2C8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127A-B9F4-45D6-96C5-9459D735A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9618-8973-4128-A33C-579B5E75A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2D93-B698-4564-B306-5C15DFF2B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E03-1C57-4B73-B915-162E8268E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240B-7A9F-44B8-AF5B-B85FB4666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4841-9B36-4955-902B-AF6D3E54D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468-9D8E-4067-8A1C-8067958B2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FC3E-DD1D-4D18-BD55-C6E2ED645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16E4-3531-48B1-9837-88E5108E1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4381-3ED1-426C-AE91-3609B147A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DFE7-62EB-4FBE-BC1C-98630C9A9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1268-7BD4-4637-AE78-8833DE248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7D3A-BAA5-45DA-AC16-70FF2C6B7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4407-1E6A-4454-8AAD-4C421986C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CD1E-E8FF-430F-9408-6F46C7A11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D781-776B-4ECD-8828-E75B5D7FF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3049-3F56-4183-94BD-F54868644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EC0C-5F23-4370-88D6-F143FC9EE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FFA-DE78-4931-A607-2BD16443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FF0-4CEF-4732-A12D-B34BF353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31A-649E-46AD-ACF2-F1563AE0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B62-12C4-4252-B31C-2C9F2ABF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3ACD-97D9-460B-8149-CF90FB65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6BC9-3340-48CA-B8CF-22EAB8A2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51CC-E2F5-4FAE-BA6E-3546BB6A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A961-DAB7-40DA-BECD-C4EA14A4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AE65-0549-442B-A408-0E3EFCA3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7835-F143-47E1-9F22-74E89D24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A101-3258-4FC1-8E9F-B02B4232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0F4-06A4-4504-8027-733C25DC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AD7A-6109-4178-9313-99B58F79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A054-203F-43A2-9D52-B142939F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2F01-F2BF-4551-85D8-B1A61AB2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F68E-C52A-479A-BF63-D1174072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114F-9EEA-4D51-ABD0-7BFE86E2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7FC9-9195-4390-BA44-92DAC840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28C8-2E8A-4D10-A4E6-FE568A21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07D8-B20F-40D1-B4D0-FD418630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32BB-8A80-438B-8A18-996EC74D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88B9-6C39-4A09-8CD5-5FF72FFD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9C3-2C23-4062-8473-207D701E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CC987-D27C-4112-9543-D80A7B2C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02F4-B268-47E7-8162-43E5BE53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1BA8-8922-49E0-9F57-F4295DD6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BB10-D7CB-4F38-AE91-631F71CA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E904-C0DF-4C50-BC02-56D7DBC9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C5C1-8B9C-4B7D-A80F-677EF77A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E0F6A-D6CC-4F7D-8BE5-20303B36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CA044-321F-4CA3-962F-800FE14A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566A3-B8D7-4019-8E8B-553D547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CF97-5170-4306-8237-3F51BF8D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580-16EA-4AD1-85AF-E85FD1CB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2D66A-CA6E-46F6-A720-A680AA29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A0210-35F1-4176-A9B8-02B4EC18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C66D4-56B1-4DA8-A685-4082CA0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82C5-3A57-4BBC-A485-C218B59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39CC5-3014-4594-BA86-D65160D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742D8-BA3C-43E4-BE67-CA0194B3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7A34-5824-4EDF-B7AE-9A76A068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CD34-0F9A-415E-8D26-141F285D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724C6-41ED-49F9-93B3-2554AED0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D9EDC-B7D3-4B21-ABEA-729B0F5D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739-9F65-49A3-8498-4F5980F0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CB39C-2590-4F7D-BE10-D0C6D74B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DE7E-1788-46F6-A489-D8B473B7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52CE5-07DC-428A-B000-465F9F16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2C6E-5618-4328-9DDB-FD8449E1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063A2-F347-49E2-97A2-D6651CCA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1CAE-E87E-4DAC-A3C1-492D8136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8EF1A-38A6-460B-AA30-80F837D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CA848-E33C-4F69-BCF8-D2132DF8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98E3-EC5B-4BD3-97BA-66D991E0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75CB-E6C5-4749-AA0D-59A66A3D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CBA-7A23-4DAF-ADCE-D0BC0CE5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7ACA7-712A-4D27-8564-222E7BA0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6E8C7-A00D-4741-AF40-49788DBB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577C2-B96D-4FD1-9143-2129173F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3DA8-5481-4793-B0F3-66FA5FC8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2EE3F-8E67-4259-8A58-40082EB4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11C7D-0C5C-40A4-82C5-724E8CDA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C2C09-0610-4F47-89CC-6815E522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AF78-ECEA-494E-B0F7-58695B5A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5C245-1416-4AEF-ABDD-3F3CAD98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DB2E4-531D-4D4C-A68F-F5F3379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74C-77CD-45F4-A01C-8E42CE31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62B8E-87B5-4D8D-AF6C-2034AED3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78BB0-E2BE-4238-AEE2-87EDB2BE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F779F-50A0-4473-8421-CE2BE977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9C238-8FCE-4A2C-8C46-4D234A1E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5FCF4-7628-44E4-B8AA-9942D5BA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9605F-93C6-40C3-8139-B73A4A91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4C47C-F50F-46B4-B79F-5B8E45C9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0CE03-74DF-4E8F-ABB9-D25BE75E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44BCC-5A02-4D7C-87D0-C88734AA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0A78D-DDA6-4251-889F-99857BF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567-2677-4070-A13A-3FD9D7F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09B70-AEEF-46DD-B585-27D1C54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EC2F9-C341-413D-BA17-C45B490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B013E-ED01-4533-8125-AE2144E8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AEB5A-8366-4F78-BA10-42CCDF43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23793-B7C2-4086-A16A-7D9D248D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CEA33-98A6-4BD2-855B-58078922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4014D-68E0-42FC-85BF-92D4FCED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E28A3-9D57-4AAE-A56A-BAD30930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E58E7-9A84-4716-973B-951AF6A4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FC384-82E1-4A16-8B02-36C6125E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19B-3455-490E-8A58-D34170A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BC2F0-B805-41B5-911E-500CF54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79E76-AAC3-4138-8943-9D1C164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357F4-4310-44E1-AFBD-5AAC215B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83F4C-2BA2-485E-BD53-0397FF60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EC7A1-008A-418E-8B61-B311EA80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A524B-34F2-4FEA-BAD0-A9319954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3B1B9-3733-4A85-A339-A322F411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EA19-7A25-4603-913E-74402806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F9F7-36D8-4E90-A539-CC9BF252769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98D0-BC3E-40A2-B289-362E37427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A13A-93F7-4140-975A-ED69D0563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C91A-A0A3-4FB3-AA06-EDAAA7A71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118D-687C-446E-B7CA-BBD2C8C79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4382-9543-47A0-9338-18AEC6A4210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2DE9-A627-423C-8193-B01D516F33D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530280" y="938160"/>
            <a:ext cx="8211960" cy="3932280"/>
          </a:xfrm>
          <a:prstGeom prst="rect">
            <a:avLst/>
          </a:prstGeom>
          <a:ln w="0">
            <a:noFill/>
          </a:ln>
        </p:spPr>
      </p:pic>
      <p:pic>
        <p:nvPicPr>
          <p:cNvPr id="365" name="Subtitle 2" descr=""/>
          <p:cNvPicPr/>
          <p:nvPr/>
        </p:nvPicPr>
        <p:blipFill>
          <a:blip r:embed="rId2"/>
          <a:stretch/>
        </p:blipFill>
        <p:spPr>
          <a:xfrm>
            <a:off x="378000" y="3730680"/>
            <a:ext cx="82422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1371600" cy="6870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3124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Work areas should be kept clean and tidy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at all times.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0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343400" y="1066680"/>
            <a:ext cx="4584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1371600" cy="68709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327672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abels and equipment instructions must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e read carefully before use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724280" y="609480"/>
            <a:ext cx="4203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27360" cy="70419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35812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y time chemicals, heat, or glasswar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re used, students will wear laborator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ggles. There will be no exceptions to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s rule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6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572000" y="838080"/>
            <a:ext cx="4356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1311480" cy="6997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142640" y="380520"/>
            <a:ext cx="342900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ng hair, dangling jewelry, and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ose or baggy clothing are a hazard in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laboratory. Long hair must be tied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ack and dangling jewelry and loose or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aggy clothing must be secure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9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343400" y="609480"/>
            <a:ext cx="4584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-6480" y="-255600"/>
            <a:ext cx="1311480" cy="72961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32767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f you do not understand how to use a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iece of equipment, ask the instructor for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2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800600" y="914400"/>
            <a:ext cx="4127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7360" cy="68709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218960" y="380520"/>
            <a:ext cx="33526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hemicals should never be sniffed.  Follow the right procedures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5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648320" y="1066680"/>
            <a:ext cx="4279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11480" cy="68709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3124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Lab coat should be worn all the time in the lab area.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8" name="Picture 2" descr="C:\Documents and Settings\Owner\My Documents\My Pictures\Lab_Safety_lab coat.jpg"/>
          <p:cNvPicPr/>
          <p:nvPr/>
        </p:nvPicPr>
        <p:blipFill>
          <a:blip r:embed="rId2"/>
          <a:stretch/>
        </p:blipFill>
        <p:spPr>
          <a:xfrm>
            <a:off x="4648320" y="838080"/>
            <a:ext cx="4279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410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11480" cy="68709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7696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n entering the Lab Area, you would find a cabinet  with these labels on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pen it and take one pair of goggles and a lab coat, put them on and continue to the la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rcRect l="12114" t="21117" r="14443" b="8282"/>
          <a:stretch/>
        </p:blipFill>
        <p:spPr>
          <a:xfrm>
            <a:off x="2133720" y="1981080"/>
            <a:ext cx="2361960" cy="1981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Documents and Settings\Owner\My Documents\My Pictures\Lab_Safety_lab coat.jpg"/>
          <p:cNvPicPr/>
          <p:nvPr/>
        </p:nvPicPr>
        <p:blipFill>
          <a:blip r:embed="rId3"/>
          <a:stretch/>
        </p:blipFill>
        <p:spPr>
          <a:xfrm>
            <a:off x="5486400" y="1981080"/>
            <a:ext cx="2362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85680" y="-6480"/>
            <a:ext cx="1523880" cy="68709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3124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mediately flush with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unning water from the eyewash station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r safety shower for at least 20 minutes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tify the instructor immediate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7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800600" y="762120"/>
            <a:ext cx="4127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3" descr=""/>
          <p:cNvPicPr/>
          <p:nvPr/>
        </p:nvPicPr>
        <p:blipFill>
          <a:blip r:embed="rId1"/>
          <a:stretch/>
        </p:blipFill>
        <p:spPr>
          <a:xfrm>
            <a:off x="1292400" y="-6480"/>
            <a:ext cx="7186320" cy="6340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9" descr=""/>
          <p:cNvPicPr/>
          <p:nvPr/>
        </p:nvPicPr>
        <p:blipFill>
          <a:blip r:embed="rId2"/>
          <a:stretch/>
        </p:blipFill>
        <p:spPr>
          <a:xfrm flipH="1">
            <a:off x="0" y="45720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616040" cy="68709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3124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will be shown the proper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thod for diluting strong acids. Alway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dd acid to water, swirl or stir the solution and be careful of the heat produced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rticularly with sulfuric aci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0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800600" y="1371600"/>
            <a:ext cx="4127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11480" cy="68709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327672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use of equipment will be modeled to you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you do not understand how to use 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iece of equipment, ask the instructor for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lp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3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800600" y="914400"/>
            <a:ext cx="4127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11480" cy="6870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295280" y="533520"/>
            <a:ext cx="3276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lace the container about six inches from your nose and, using your free hand, wave the vapors toward your nos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6" name="Content Placeholder 6" descr="Lab_Safety_hair care.jpg"/>
          <p:cNvPicPr/>
          <p:nvPr/>
        </p:nvPicPr>
        <p:blipFill>
          <a:blip r:embed="rId2"/>
          <a:stretch/>
        </p:blipFill>
        <p:spPr>
          <a:xfrm>
            <a:off x="4800600" y="1066680"/>
            <a:ext cx="4127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11480" cy="6870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1295280" y="533520"/>
            <a:ext cx="3276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Follow the P.A.S.S .word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ul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Aim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queez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wee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9" name="Picture 2" descr="C:\Documents and Settings\Owner\My Documents\My Pictures\safety rules fire extinguisher.jpg"/>
          <p:cNvPicPr/>
          <p:nvPr/>
        </p:nvPicPr>
        <p:blipFill>
          <a:blip r:embed="rId2"/>
          <a:stretch/>
        </p:blipFill>
        <p:spPr>
          <a:xfrm>
            <a:off x="4800600" y="609480"/>
            <a:ext cx="40384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82240" cy="1407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C:\Documents and Settings\Owner\My Documents\My Pictures\safety rules fire extinguisher.jpg"/>
          <p:cNvPicPr/>
          <p:nvPr/>
        </p:nvPicPr>
        <p:blipFill>
          <a:blip r:embed="rId2"/>
          <a:stretch/>
        </p:blipFill>
        <p:spPr>
          <a:xfrm>
            <a:off x="3486240" y="2766960"/>
            <a:ext cx="2171520" cy="2803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C:\Documents and Settings\Owner\My Documents\My Pictures\safety rules fire extinguisher.jpg"/>
          <p:cNvPicPr/>
          <p:nvPr/>
        </p:nvPicPr>
        <p:blipFill>
          <a:blip r:embed="rId3"/>
          <a:stretch/>
        </p:blipFill>
        <p:spPr>
          <a:xfrm>
            <a:off x="3505320" y="2666880"/>
            <a:ext cx="2170080" cy="2803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C:\Documents and Settings\Owner\My Documents\My Pictures\Lab_Safety_follow directions.jpg"/>
          <p:cNvPicPr/>
          <p:nvPr/>
        </p:nvPicPr>
        <p:blipFill>
          <a:blip r:embed="rId4"/>
          <a:stretch/>
        </p:blipFill>
        <p:spPr>
          <a:xfrm>
            <a:off x="835200" y="1706400"/>
            <a:ext cx="755316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609480" y="607680"/>
            <a:ext cx="80773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40059"/>
                </a:solidFill>
                <a:uFillTx/>
                <a:latin typeface="Verdana"/>
                <a:ea typeface="Times New Roman"/>
              </a:rPr>
              <a:t>CHEMISTRY LABORATORY RULES AND PROCEDUR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Verdana"/>
                <a:ea typeface="Times New Roman"/>
              </a:rPr>
              <a:t>Follow the rules and learn the procedures  to minimize risk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Verdana"/>
                <a:ea typeface="Times New Roman"/>
              </a:rPr>
              <a:t>IF IN DOUBT ABOUT ANYTHING, ASK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Verdana"/>
                <a:ea typeface="Times New Roman"/>
              </a:rPr>
              <a:t>THE LABORATORY IS NO PLACE TO MAKE ASSUMPTIONS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1096920" cy="687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218960" y="0"/>
            <a:ext cx="37335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A chemistry lab can be a cool place to be, but also it can be very dangerous.  No clowning will be allowe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A high school students should behave responsibly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1" name="Content Placeholder 4" descr="Goggles.jpg"/>
          <p:cNvPicPr/>
          <p:nvPr/>
        </p:nvPicPr>
        <p:blipFill>
          <a:blip r:embed="rId2"/>
          <a:stretch/>
        </p:blipFill>
        <p:spPr>
          <a:xfrm>
            <a:off x="5029200" y="1066680"/>
            <a:ext cx="389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19080" y="-42840"/>
            <a:ext cx="1725480" cy="6961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752480" y="0"/>
            <a:ext cx="3200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e want you alive!! Therefore, eating or drinking are not allowed in the lab are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o not us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boratory glassware as containers for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od or beverages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4" name="Content Placeholder 4" descr="Goggles.jpg"/>
          <p:cNvPicPr/>
          <p:nvPr/>
        </p:nvPicPr>
        <p:blipFill>
          <a:blip r:embed="rId2"/>
          <a:stretch/>
        </p:blipFill>
        <p:spPr>
          <a:xfrm>
            <a:off x="5029200" y="1066680"/>
            <a:ext cx="3898800" cy="4648320"/>
          </a:xfrm>
          <a:prstGeom prst="rect">
            <a:avLst/>
          </a:prstGeom>
          <a:ln w="0">
            <a:noFill/>
          </a:ln>
        </p:spPr>
      </p:pic>
      <p:pic>
        <p:nvPicPr>
          <p:cNvPr id="375" name="Content Placeholder 4" descr="Goggles.jpg"/>
          <p:cNvPicPr/>
          <p:nvPr/>
        </p:nvPicPr>
        <p:blipFill>
          <a:blip r:embed="rId3"/>
          <a:stretch/>
        </p:blipFill>
        <p:spPr>
          <a:xfrm>
            <a:off x="4648320" y="990720"/>
            <a:ext cx="4279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616040" cy="68709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44792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ever do anything in the laboratory that is not calle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r in the laboratory procedures or b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ur instructor. Unauthorized experiments are prohibited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8" name="Content Placeholder 4" descr="Goggles.jpg"/>
          <p:cNvPicPr/>
          <p:nvPr/>
        </p:nvPicPr>
        <p:blipFill>
          <a:blip r:embed="rId2"/>
          <a:stretch/>
        </p:blipFill>
        <p:spPr>
          <a:xfrm>
            <a:off x="4800600" y="762120"/>
            <a:ext cx="4127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768680" cy="68709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are feet or any type of open shoe or sandal can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ot be worn into the chemistry laboratory.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ikewise, short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ants and skirts are also not permitted.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It is recommended that you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on't wear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r best clothes to la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1311480" cy="71564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447920" y="380520"/>
            <a:ext cx="312408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Glassware must be placed in the special trashcan label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BROKEN GLASS ONLY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4" name="Content Placeholder 4" descr="Goggles.jpg"/>
          <p:cNvPicPr/>
          <p:nvPr/>
        </p:nvPicPr>
        <p:blipFill>
          <a:blip r:embed="rId2"/>
          <a:stretch/>
        </p:blipFill>
        <p:spPr>
          <a:xfrm>
            <a:off x="4648320" y="914400"/>
            <a:ext cx="4279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-6480" y="-201600"/>
            <a:ext cx="1397160" cy="7205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447560" y="380520"/>
            <a:ext cx="342900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rseplay, practical jokes, and pranks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re dangerous and prohibited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7" name="Content Placeholder 6" descr="Lab_Safety_horseplay.jpg"/>
          <p:cNvPicPr/>
          <p:nvPr/>
        </p:nvPicPr>
        <p:blipFill>
          <a:blip r:embed="rId2"/>
          <a:stretch/>
        </p:blipFill>
        <p:spPr>
          <a:xfrm>
            <a:off x="4952880" y="762120"/>
            <a:ext cx="3975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2:44:16Z</dcterms:created>
  <dc:creator>Owner</dc:creator>
  <dc:description/>
  <dc:language>en-US</dc:language>
  <cp:lastModifiedBy>Owner</cp:lastModifiedBy>
  <dcterms:modified xsi:type="dcterms:W3CDTF">2008-11-02T16:51:25Z</dcterms:modified>
  <cp:revision>25</cp:revision>
  <dc:subject/>
  <dc:title>LAB SAFETY RULES AND PROCEDURES</dc:title>
</cp:coreProperties>
</file>